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A277-F978-457E-B632-D7BB1704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B1D9-A3CB-48D1-8030-83C4E6E2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1E11-3177-4D14-954F-B0EE995E9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5C19-A146-4293-B845-6412EB891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CCDD-DAD7-4B4A-AF8A-1A8FF939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B8F9-E22E-4A4F-B4AD-B96E5464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71B6-F47C-41E9-B164-1B0F5B96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3286-BB48-432E-9701-17C87677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2D72-F38F-4E54-98EF-991D556C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D12C-2941-409C-B721-5D67EBB4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68DF-74C1-43E9-96A0-E7F45D33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CB93-40A8-43FB-BF6F-0F97B8F1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5018-F6E1-4665-8E76-587AAEFB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1780-F669-4E81-8526-4D5FB6D5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F1D3-BC55-4E70-9CD4-BEAB6ADD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5861-6E32-4A6D-B4D2-4A5B5CB7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7F1C-77ED-4FF3-99C7-18A24384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5749-4502-4FF7-BE6F-A4F40FC8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CB0E-93DE-4E61-AF86-DA4BF0F4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9314-0EE0-4EDD-8157-253057DD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EDEE-CAD4-47D0-8F51-AE28B96D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44CA-6FFC-44EC-9976-23345A46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9F63-9128-48C1-8289-AB3A2925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2726-2AC8-4E8C-B365-795D18CD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BAC0-B8F2-4E14-9AE5-F37D93D12A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56C9-B45E-4360-A54B-A334CA4F968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79153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b7"/>
                </a:solidFill>
                <a:latin typeface="Arial Black"/>
              </a:rPr>
              <a:t>ЛИЧНАЯ ГИГИЕНА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43000" y="414288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АОУ «Лицей № 62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во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234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а должна бы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зрач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иметь запах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еть освежающий вку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более благоприятная температура воды для питья – 7-12 градус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8512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жилищ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10508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лище должно быт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статочно просторным и сух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орошо освещенным солнечным свет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ист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лжно проветрива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i"/>
          <p:cNvPicPr/>
          <p:nvPr/>
        </p:nvPicPr>
        <p:blipFill>
          <a:blip r:embed="rId1"/>
          <a:stretch/>
        </p:blipFill>
        <p:spPr>
          <a:xfrm>
            <a:off x="4500720" y="1700280"/>
            <a:ext cx="4248000" cy="374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После таких советов, думаю что вы всегда будете здоровыми, чистыми и опрятными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wedg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68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68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Понятие гигиен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324000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гиена в переводе с греческого – целебный, приносящий здоров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2177916_f520"/>
          <p:cNvPicPr/>
          <p:nvPr/>
        </p:nvPicPr>
        <p:blipFill>
          <a:blip r:embed="rId1"/>
          <a:stretch/>
        </p:blipFill>
        <p:spPr>
          <a:xfrm>
            <a:off x="4356000" y="1557360"/>
            <a:ext cx="4608720" cy="511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%d0%93%d0%b8%d0%b3%d0%b8%d0%b5%d0%bd%d0%b0"/>
          <p:cNvPicPr/>
          <p:nvPr/>
        </p:nvPicPr>
        <p:blipFill>
          <a:blip r:embed="rId1"/>
          <a:stretch/>
        </p:blipFill>
        <p:spPr>
          <a:xfrm>
            <a:off x="250920" y="115920"/>
            <a:ext cx="8713800" cy="65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кож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поддержания чистоты кожи ежедневно следует принимать душ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ытье - основной вид ухода за кожей, при котором с ее поверхности удаляются пыль, микробы, пот, различные загрязн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1" descr="i"/>
          <p:cNvPicPr/>
          <p:nvPr/>
        </p:nvPicPr>
        <p:blipFill>
          <a:blip r:embed="rId1"/>
          <a:stretch/>
        </p:blipFill>
        <p:spPr>
          <a:xfrm>
            <a:off x="5192640" y="2398680"/>
            <a:ext cx="3640320" cy="267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льза бан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Picture 11" descr="parnaya"/>
          <p:cNvPicPr/>
          <p:nvPr/>
        </p:nvPicPr>
        <p:blipFill>
          <a:blip r:embed="rId1"/>
          <a:stretch/>
        </p:blipFill>
        <p:spPr>
          <a:xfrm>
            <a:off x="179280" y="1557360"/>
            <a:ext cx="4537080" cy="4751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x_d3ab18d4"/>
          <p:cNvPicPr/>
          <p:nvPr/>
        </p:nvPicPr>
        <p:blipFill>
          <a:blip r:embed="rId2"/>
          <a:stretch/>
        </p:blipFill>
        <p:spPr>
          <a:xfrm>
            <a:off x="4932360" y="1484280"/>
            <a:ext cx="3960720" cy="237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i_113"/>
          <p:cNvPicPr/>
          <p:nvPr/>
        </p:nvPicPr>
        <p:blipFill>
          <a:blip r:embed="rId3"/>
          <a:stretch/>
        </p:blipFill>
        <p:spPr>
          <a:xfrm>
            <a:off x="5219640" y="4076640"/>
            <a:ext cx="3600360" cy="23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851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е забудьте и о зуба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Picture 15" descr="0_705d6_a7bd8d8f_orig"/>
          <p:cNvPicPr/>
          <p:nvPr/>
        </p:nvPicPr>
        <p:blipFill>
          <a:blip r:embed="rId1"/>
          <a:stretch/>
        </p:blipFill>
        <p:spPr>
          <a:xfrm>
            <a:off x="971640" y="1413000"/>
            <a:ext cx="7416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одеж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904760"/>
            <a:ext cx="4176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ункция одежды – защита организма от неблагоприятных внешних условий и воздейст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лжна соответствовать времени года, характеру работы, не затруднять движения и дых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9" descr="Рисунок1"/>
          <p:cNvPicPr/>
          <p:nvPr/>
        </p:nvPicPr>
        <p:blipFill>
          <a:blip r:embed="rId1"/>
          <a:stretch/>
        </p:blipFill>
        <p:spPr>
          <a:xfrm>
            <a:off x="4643280" y="1268280"/>
            <a:ext cx="4032360" cy="2546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post-1291457207"/>
          <p:cNvPicPr/>
          <p:nvPr/>
        </p:nvPicPr>
        <p:blipFill>
          <a:blip r:embed="rId2"/>
          <a:stretch/>
        </p:blipFill>
        <p:spPr>
          <a:xfrm>
            <a:off x="5148360" y="3933720"/>
            <a:ext cx="3240000" cy="28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пит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правильное хранение продуктов приводит 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х порче, 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отребление таких продуктов может вызвать пищевые отравления 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екционные заболе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окружающей нас среде находится множество микроорганизмов, которые пр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лагоприятных условиях быстро размножаются. Некоторые и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х способны вырабатывать сильные яды (токсины). 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иболее распространенным микроорганизмам относятся плесневые грибы, дрожжи 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кте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Рацион должен быт разнообразным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Рисунок 8" descr="{2C4AFA75-0736-47BB-A59F-92FDC51620EC}"/>
          <p:cNvPicPr/>
          <p:nvPr/>
        </p:nvPicPr>
        <p:blipFill>
          <a:blip r:embed="rId1"/>
          <a:stretch/>
        </p:blipFill>
        <p:spPr>
          <a:xfrm>
            <a:off x="1116000" y="1844640"/>
            <a:ext cx="7056360" cy="4897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2T18:53:30Z</dcterms:created>
  <dc:creator>user</dc:creator>
  <dc:description/>
  <dc:language>en-US</dc:language>
  <cp:lastModifiedBy>Учитель</cp:lastModifiedBy>
  <dcterms:modified xsi:type="dcterms:W3CDTF">2013-05-06T16:48:15Z</dcterms:modified>
  <cp:revision>4</cp:revision>
  <dc:subject/>
  <dc:title>ЛИЧНАЯ ГИГИЕНА</dc:title>
</cp:coreProperties>
</file>